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6A9-50E6-420C-8269-5E3A33C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EE7-5092-4AA6-B0E5-EF4B81D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EBB-0A92-4C9E-B09B-1AC6C88F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211-678B-4197-B68D-6302B103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6B4-EA60-4734-B624-4D6A5423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A7B-0223-4C18-9929-8823628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A2D-81E9-43C8-A447-561FA34D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3FF-A8CC-4452-92F8-FCDFF14A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658-4D5F-48BD-A359-C1A1A8D6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EF5-6483-40F4-8F3A-CDB3787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765-BEE8-4A97-8124-B95185F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76A-D8E7-4639-B566-9B7B7B4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1FFD-F2DA-4BA4-872E-56DBEB6A6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808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066680" y="5867280"/>
            <a:ext cx="6248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391520" y="4572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808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808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19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50840" y="-311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05280" y="-158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20080" y="-235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1289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13651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760" y="3727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760" y="907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4280" y="907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0560" y="34988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6920" y="32702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0:04:37Z</dcterms:created>
  <dc:creator>Sorita Alexander</dc:creator>
  <dc:description/>
  <dc:language>en-US</dc:language>
  <cp:lastModifiedBy>Sorita Alexander</cp:lastModifiedBy>
  <dcterms:modified xsi:type="dcterms:W3CDTF">2011-03-10T00:14:07Z</dcterms:modified>
  <cp:revision>2</cp:revision>
  <dc:subject/>
  <dc:title>Slide 1</dc:title>
</cp:coreProperties>
</file>